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57EF-2A24-4C41-AA1F-D0861582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F18-8ACD-4A35-9BF9-6500AF30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1CB-4F8B-4AD7-839F-153A9709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CCA-50DA-4057-A803-C32A6110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DEA07-9796-42F0-A603-D045E452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6C022-6EA4-49A7-B3BA-8030468C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2226A-4602-4421-A2B5-25342D00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E66FB-04EF-4D3C-9FF8-3FA3EC3F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EFB80-482F-472E-9805-CAE182F4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EADCF-A83F-4CC8-B438-F4B351DE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4EFD1-9DC8-4C39-9E0C-664F5C38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8766-B757-40AC-9894-A092F4C1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0F0C0-0F4C-4922-98C9-8994025E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202F8-9479-4F7E-BED7-D511589E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E5DEF-6B0D-4991-9751-EF48AF35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D4C92-BE53-4532-9794-BEF3645C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E0F2A-651D-4EE6-A95E-CACD1D17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B71-A8DE-4986-B5F9-DB98B869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D221-023C-4964-ABCD-7C13D2B9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FCA-99B4-498F-8339-E20CB0F0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69D5-1EA3-45BD-8537-A99ED3E8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80D-F27F-45AF-919B-E28F5C1F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19A8-FA80-488B-8BA5-C1DD796D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1F1C-A6AF-4AA1-AE17-17FC1ECE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012F-F476-4609-BDAB-E5FEAEB74C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ADF5-2874-4018-ADF1-25B5C3BCB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video" Target="file:///tmp/home/.config/libreoffice/4/user/gallery/slide1" TargetMode="External"/><Relationship Id="rId4" Type="http://schemas.microsoft.com/office/2007/relationships/media" Target="file:///tmp/home/.config/libreoffice/4/user/gallery/slide1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video" Target="file:///tmp/home/.config/libreoffice/4/user/gallery/slide8" TargetMode="External"/><Relationship Id="rId7" Type="http://schemas.microsoft.com/office/2007/relationships/media" Target="file:///tmp/home/.config/libreoffice/4/user/gallery/slide8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http://www.youtube.com/watch?v=okZBiy_IdBA&amp;feature=related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quizlet.com/2433072/water-cycle-vocabulary-flash-cards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jawwa.org/kidsweb/waterfacts/waterfacts.htm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erpetua"/>
              </a:rPr>
              <a:t>An Introduction to the</a:t>
            </a:r>
            <a:br>
              <a:rPr sz="3200"/>
            </a:br>
            <a:r>
              <a:rPr b="1" lang="en-US" sz="5400" spc="-1" strike="noStrike">
                <a:solidFill>
                  <a:srgbClr val="ffffff"/>
                </a:solidFill>
                <a:latin typeface="Curlz MT"/>
              </a:rPr>
              <a:t>WATER CYCL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Mrs. Hans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erpetu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Perpetua"/>
              </a:rPr>
              <a:t> Grade Sci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638680" y="64911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Click Her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05920" y="6553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799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2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erpetua"/>
              </a:rPr>
              <a:t>The 3 Phases of the Water Cycle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Perpetua"/>
              </a:rPr>
              <a:t>Precipit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Perpetua"/>
              </a:rPr>
              <a:t>Evapor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Perpetua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5410080" cy="4496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0" y="3809880"/>
            <a:ext cx="83808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24680" y="4572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0" y="3657600"/>
            <a:ext cx="129528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5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2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Perpetua"/>
              </a:rPr>
              <a:t>Precipitation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rpetua"/>
              </a:rPr>
              <a:t>Precipitation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 is when water comes to the Earth from the clou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rpetua"/>
              </a:rPr>
              <a:t>Precipitation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 can come in several different form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R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Sn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Sle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Ha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1679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629400" y="1676520"/>
            <a:ext cx="2514600" cy="1774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629400" y="342900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629400" y="5086440"/>
            <a:ext cx="2514600" cy="1771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7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500"/>
                            </p:stCondLst>
                            <p:childTnLst>
                              <p:par>
                                <p:cTn id="94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3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2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7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6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Perpetua"/>
              </a:rPr>
              <a:t>Evaporation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erpetua"/>
              </a:rPr>
              <a:t>Evaporation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 takes place when the sun’s heat warms u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Perpetua"/>
              </a:rPr>
              <a:t>surface water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 (puddles, streams, rivers, lakes) enough to turn it from liquid form into g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Once the water has turned into gas,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Perpetua"/>
              </a:rPr>
              <a:t>water vapor</a:t>
            </a:r>
            <a:r>
              <a:rPr b="0" lang="en-US" sz="2800" spc="-1" strike="noStrike">
                <a:solidFill>
                  <a:srgbClr val="ffffff"/>
                </a:solidFill>
                <a:latin typeface="Perpetua"/>
              </a:rPr>
              <a:t>, then it rises up into the a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648320" y="2446200"/>
            <a:ext cx="4038480" cy="3030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5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20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Perpetua"/>
              </a:rPr>
              <a:t>Condensation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erpetua"/>
              </a:rPr>
              <a:t>Condensation</a:t>
            </a: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 takes place after water has evaporated into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Perpetua"/>
              </a:rPr>
              <a:t>atmosphere</a:t>
            </a: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Here, the water vapor cools back down and returns to its liquid for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As the water condenses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Perpetua"/>
              </a:rPr>
              <a:t>clouds</a:t>
            </a: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 are formed in the sk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erpetua"/>
              </a:rPr>
              <a:t>When the clouds get full of water, the cycle continues to the Precipitation phase once agai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64280" y="0"/>
            <a:ext cx="2979720" cy="1981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724280" y="1143000"/>
            <a:ext cx="2979720" cy="1981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486400" y="2895480"/>
            <a:ext cx="3657600" cy="2457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876920" y="3505320"/>
            <a:ext cx="2208240" cy="3352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5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500"/>
                            </p:stCondLst>
                            <p:childTnLst>
                              <p:par>
                                <p:cTn id="168" nodeType="afterEffect" fill="hold" presetClass="entr" presetID="5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4" nodeType="afterEffect" fill="hold" presetClass="entr" presetID="5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0" nodeType="after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6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98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2300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erpetua"/>
              </a:rPr>
              <a:t>A Song to Help You Remember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7696080" cy="5130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95280" y="6553080"/>
            <a:ext cx="6553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youtube.com/watch?v=okZBiy_IdBA&amp;feature=related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96533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Perpetua"/>
              </a:rPr>
              <a:t>Water Cycle Vocabulary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erpetua"/>
              </a:rPr>
              <a:t>Atmosphe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erpetua"/>
              </a:rPr>
              <a:t>Clou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erpetua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erpetua"/>
              </a:rPr>
              <a:t>Ground wa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erpetua"/>
              </a:rPr>
              <a:t>Evapor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erpetua"/>
              </a:rPr>
              <a:t>Precipit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erpetua"/>
              </a:rPr>
              <a:t>Run-off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erpetua"/>
              </a:rPr>
              <a:t>Surface wa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erpetua"/>
              </a:rPr>
              <a:t>Water cyc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erpetua"/>
              </a:rPr>
              <a:t>Water vap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556272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erpetua"/>
              </a:rPr>
              <a:t>All terms, definitions, and pictures can be found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quizlet.com/2433072/water-cycle-vocabulary-flash-cards/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320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urlz MT"/>
              </a:rPr>
              <a:t>Fun Facts About WATER…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erpetua"/>
              </a:rPr>
              <a:t>Dinosaurs swam in and drank the same water we do toda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erpetua"/>
              </a:rPr>
              <a:t>75% of the Earth is covered with wat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erpetua"/>
              </a:rPr>
              <a:t>Only 3% of the Earth’s water is drinkab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erpetua"/>
              </a:rPr>
              <a:t>For more interesting facts, go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Perpetua"/>
                <a:hlinkClick r:id="rId2"/>
              </a:rPr>
              <a:t>NJAWWA Fun Water Fa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50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2500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0:07:02Z</dcterms:created>
  <dc:creator>Shaun </dc:creator>
  <dc:description/>
  <dc:language>en-US</dc:language>
  <cp:lastModifiedBy>Shaun </cp:lastModifiedBy>
  <dcterms:modified xsi:type="dcterms:W3CDTF">2010-06-08T20:49:12Z</dcterms:modified>
  <cp:revision>9</cp:revision>
  <dc:subject/>
  <dc:title>An Introduction to the WATER CYCLE</dc:title>
</cp:coreProperties>
</file>